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A81F-8BB3-4AA9-89A1-255CA84D3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C1F4-5E0D-49CF-9337-08DC9F1BC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D7F3-8822-4222-BEA1-DFC3784F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E93-8C65-4333-BBD3-698A4B07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E2E-50B3-4261-AE1A-C358FD2B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4BC-7355-46EA-A80E-DDD6D859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00B8-23DD-49BD-ABBB-77DC0CF2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583-91DA-4016-9E17-853D1165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974-4AE2-43C4-897C-4C4F7137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2652-55F0-418F-9907-D382686F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D16-E44A-4AE2-A423-37C46F37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4B6-106E-4B16-8C6A-72E89A18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8AC-7FCD-46D8-9CE1-CA6F6162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FCB4-47D7-4551-9F4B-A925B4C6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87E6-3550-48D0-BFC1-5EDB328D6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5 Folk s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ocus on dail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not become part of popula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e inseparable from the acoustic gu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ve so far been of little cultural signific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re often difficult to interp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5 Folk s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Focus on dail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annot become part of popula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e inseparable from the acoustic gu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ave so far been of little cultural significa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re often difficult to interpr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6 Hog production is low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6 Hog production is low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North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04_06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7 Wine production typically requires all of the following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ll-drained so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pportive cus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oximity to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ool su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ol w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7 Wine production typically requires all of the following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ll-drained so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upportive cus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oximity to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ool su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ool w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4_13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8 In America, tequila is consumed primarily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8 In America, tequila is consumed primarily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id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South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ou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rth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1 An act repeatedly performed by an individual is a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ltural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b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ust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rai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nnoy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4_12r"/>
          <p:cNvPicPr/>
          <p:nvPr/>
        </p:nvPicPr>
        <p:blipFill>
          <a:blip r:embed="rId1"/>
          <a:stretch/>
        </p:blipFill>
        <p:spPr>
          <a:xfrm>
            <a:off x="1219320" y="762120"/>
            <a:ext cx="6781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9 Internet use is least prevalen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entral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9 Internet use is least prevalen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entral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4_15"/>
          <p:cNvPicPr/>
          <p:nvPr/>
        </p:nvPicPr>
        <p:blipFill>
          <a:blip r:embed="rId1"/>
          <a:stretch/>
        </p:blipFill>
        <p:spPr>
          <a:xfrm>
            <a:off x="2209680" y="457200"/>
            <a:ext cx="4800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10 Similar restaurants, gas stations, and stores throughout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llustrate how popular culture can create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orm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how how folk culture can diff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e a prime example of glob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crease cultural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10 Similar restaurants, gas stations, and stores throughout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Illustrate how popular culture can cre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 uniform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how how folk culture can diff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e a prime example of glob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crease cultural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1 An act repeatedly performed by an individual is a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ltural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Hab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ust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rai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nnoy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2 Popular culture is prac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nly where folk culture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y large heterogeneou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y individual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Only in the more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t specific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2 Popular culture is practi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nly where folk culture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By large heterogeneou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y individual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Only in the more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t specific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3 Folk culture is most likely to sprea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ierarchical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tagious dif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imulus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opycat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location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3 Folk culture is most likely to sprea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ierarchical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tagious dif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imulus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opycat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Relocation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4 Modern communications methods have _________ of social cus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lowed the disse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d little effect on the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creased the global uniform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ed to the 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4.04 Modern communications methods have _________ of social cus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lowed the disse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ad little effect on the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Increased the global uniform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ed to the fragm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one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uhartma</cp:lastModifiedBy>
  <dcterms:modified xsi:type="dcterms:W3CDTF">2012-05-10T22:02:55Z</dcterms:modified>
  <cp:revision>82</cp:revision>
  <dc:subject/>
  <dc:title>CRS Chapter 4</dc:title>
</cp:coreProperties>
</file>